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6BD7-5294-4646-BD39-7C7A94DAA6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7353-E6DB-4C68-B5F7-5DBB3E0695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5BCE-8509-4439-8591-F1928F5A41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441E-3A84-4037-90A5-E1F035B565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90BC-05B4-4D08-A923-273A9D511E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3861-2C16-4C51-86BA-02D179838A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C2A0-8B9D-482E-BE80-98F8339938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57FD-3A5B-4D59-B467-12CF7BA679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0F95-DCB4-45A1-890B-9FFFDA82FB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C14C-9C93-4B47-87EF-61F8C74DA5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8832-14CB-4E5F-8814-6D0525CDBC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A31E-B964-4640-8D7A-B34086DD21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F640-611E-48A6-808F-0DA0D5E108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BCBF6-AE7D-4569-B041-B3340970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E2F24-3801-45AE-BD96-EF2CB5CC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97ECA-CFDE-4C44-A599-E3BFB50DF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83C39-937D-4EF1-A971-9CC510D62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B311-96CC-4F9D-B26B-9D297862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B264-8309-4595-844D-413C82C0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0216-4A3D-4726-B51A-121005C9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38CC-5C81-4959-912F-D9E72E15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B3BD-7D99-4E67-9C17-E81947C4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11C7-993E-4D3A-98D4-EF676C99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36E7-2ED6-4A35-BD25-7B1C552F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671A2-1435-47C8-A791-5EE6B8E3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AC58-6DBE-4F74-BBE3-8B7DDD5E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68C2-3042-4FFA-BA12-E8835D81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C911-6689-48D3-B28F-7BEED856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CFD5-796A-48E5-9C2B-E7EF6468F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B411-9692-4F77-871A-58C50951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3711E-4D4B-4DFE-9E78-B9809E91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5DB91-C67D-4C58-AE59-9CA73D47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906CB-3C3C-4A11-BD22-D7DB3B6D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AC728-1FEF-4631-BD68-0E6DE957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D25A4-C2D3-4600-8C73-1F14C15B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53FAB-4BAE-43D6-8BAD-F95C3127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8B61E-A79D-4F82-9BD5-4D682045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5610-F494-4AA6-AFFB-DE77AC863DD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05B3-FE4B-4DE2-A69A-5BAC6D7CECB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учно – исследовательская работа по тем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214520" y="1642680"/>
            <a:ext cx="44672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Малые планеты      солнечной систе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полнил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 Линкевич Ю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ница 10 «А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У гимназии №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рода Балтий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учный 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опушнян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рда Анатольев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G:\100MEDIA\IMG_0747.JPG"/>
          <p:cNvPicPr/>
          <p:nvPr/>
        </p:nvPicPr>
        <p:blipFill>
          <a:blip r:embed="rId1"/>
          <a:stretch/>
        </p:blipFill>
        <p:spPr>
          <a:xfrm>
            <a:off x="928800" y="2071800"/>
            <a:ext cx="2914560" cy="388620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амая «таинственная» план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571760"/>
            <a:ext cx="8229600" cy="43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енеру иногда называют </a:t>
            </a: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одной из самых таин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планет Солнечной системы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лотный облачный покров окутывает ее поверх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Атмосфера на Венере была открыта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М. В. Ломоносо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блюд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6 июня 1761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хождение Вен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 диску Солнца, он заметил, что в начале прохожд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гда Венера только небольшой частью нашл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лнечный диск,  возникл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«тонкое как волос сияние»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круживш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асть диска планеты, еще не вступившей на солнечный диск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 схождении Венеры с диска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«появился на краю Солнца пупырь, который тем явственн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учинялся, чем ближе Венера к выхождению приходила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и наблюдения послужили доказательством нали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тмосферы у Вен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i[49]"/>
          <p:cNvPicPr/>
          <p:nvPr/>
        </p:nvPicPr>
        <p:blipFill>
          <a:blip r:embed="rId1"/>
          <a:stretch/>
        </p:blipFill>
        <p:spPr>
          <a:xfrm>
            <a:off x="7500960" y="1571760"/>
            <a:ext cx="1643040" cy="21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орма и размеры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неры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876924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о тех пор пока для исследований Ве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спользовались только 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оптические телескопы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давалось измерить лишь верхнюю границу радиу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лотного облачного покрова, закрывающего поверх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енеры. Появление 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радиоинтерференционных методов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зволило перейти к исследованию ее тверд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верх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аекторных измерен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ставля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51,5 ± 0,1 км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диус верхней границы облак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120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i[49]"/>
          <p:cNvPicPr/>
          <p:nvPr/>
        </p:nvPicPr>
        <p:blipFill>
          <a:blip r:embed="rId1"/>
          <a:stretch/>
        </p:blipFill>
        <p:spPr>
          <a:xfrm>
            <a:off x="6500880" y="357120"/>
            <a:ext cx="2286000" cy="21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игура Вен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Фигура планеты близка к сферическо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 экваториальной плоскости полуо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эллипсои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в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52,02 ± 0,1 км и 6050,99 ± 0,14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ярная полуос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ав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51, 54 ± 0,1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тр мас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ланет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мещ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30 ± 120 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вердой части Венеры составляе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85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ем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корение свободного пад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близи твердой поверхности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кваторе Венеры достигае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,6 м/с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i[2]"/>
          <p:cNvPicPr/>
          <p:nvPr/>
        </p:nvPicPr>
        <p:blipFill>
          <a:blip r:embed="rId1"/>
          <a:stretch/>
        </p:blipFill>
        <p:spPr>
          <a:xfrm>
            <a:off x="6227640" y="333360"/>
            <a:ext cx="2287800" cy="23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верхность Вен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Поверхность Венеры преимуществен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равнинная, обнаружены и возвыше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области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на из них представляет собой  огром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вулканическое плат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сочайшая вершина —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гора Максвел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—  высота 12 к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пад высот вдоль экватора примерно 5 к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изшая точка на поверхности -на глубине 2,5 км от средн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ров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 поверхности обнаружены кратеры, разломы и друг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изнаки протекавших на ней интенсивных тектоническ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оцессов. Отчетливо просматриваются и следы удар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бомбардиров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Поверхность покрыта камнями и плитами различ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размеров; поверхностные породы близки по составу к зем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осадочным пород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i[1]"/>
          <p:cNvPicPr/>
          <p:nvPr/>
        </p:nvPicPr>
        <p:blipFill>
          <a:blip r:embed="rId1"/>
          <a:stretch/>
        </p:blipFill>
        <p:spPr>
          <a:xfrm>
            <a:off x="6215040" y="549360"/>
            <a:ext cx="2455920" cy="252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екоторые физические и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имические параметры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ен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няя плотнос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яе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0,951 г/см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с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тмосферы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енеры примерн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100 ра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евышает массу атмосферы Зем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Преобладающую долю атмосферы составляет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глекислый газ ; азота водяного пара, кислорода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В очень малых количествах имеются также примес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SO2, H2S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CO, HCl, H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лака Венер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стоят в основно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з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75-80-процент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ерной кисл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нцентрация водяного пар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величивается с высот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стигая максимума на высоте около 50 км, где она в сто ра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ше, чем у твердой поверхности, то есть доля пара на эт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соте приближается к одному процент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вле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ол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100 ат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тность газа почти на два поряд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ше, чем в атмосфере Земл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i[1]"/>
          <p:cNvPicPr/>
          <p:nvPr/>
        </p:nvPicPr>
        <p:blipFill>
          <a:blip r:embed="rId1"/>
          <a:stretch/>
        </p:blipFill>
        <p:spPr>
          <a:xfrm>
            <a:off x="6500880" y="549360"/>
            <a:ext cx="2428920" cy="209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арс и его спут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арс, четвертая от Солнца, план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олнечн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круг Марса обращаются два спутника: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Фобо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х) и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Деймо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жас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бо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етает  Марс по орбите с радиус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350 км за 7 ч 39 м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мо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етает Марс по орбите с радиус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3500 км за 30 ч 17 мин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а спутника имеют неправильную форму и всегда обращены к Марс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дной и той же стороно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Их максимальные разме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6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лину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1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ширину у Фобос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у Деймо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равитационные поля спутников настолько слабые, ч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тмосферы они не име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 поверхности обнаружены метеоритные крате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Фобос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рупнейши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тер Стик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меет диаметр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i[14]"/>
          <p:cNvPicPr/>
          <p:nvPr/>
        </p:nvPicPr>
        <p:blipFill>
          <a:blip r:embed="rId1"/>
          <a:stretch/>
        </p:blipFill>
        <p:spPr>
          <a:xfrm>
            <a:off x="6643800" y="214200"/>
            <a:ext cx="25002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229600" cy="12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став и внутренне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роение Марс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Химический состав Марса типичен для планет Земной групп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конечно, существуют и специфические отличия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 Здесь такж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оисходило раннее перераспределение вещества  п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здействием гравитации, на что указывают сохранившие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леды первичной магматической деятельности. Несмотря,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носительно   низкую  температуру и низкую плот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ядр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арса богато железом и серой  невелико по размер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его радиус порядка 800-1000 км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 масса — около од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есятой всей массы плане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ормирование яд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продолжалос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коло миллиарда л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впало с периодом раннего вулканизма. Еще такой же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ительности период заняло частичное плавление мантий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ликатов, сопровождавшееся интенсивными вулканическими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ктоническими явлен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i[12]"/>
          <p:cNvPicPr/>
          <p:nvPr/>
        </p:nvPicPr>
        <p:blipFill>
          <a:blip r:embed="rId1"/>
          <a:stretch/>
        </p:blipFill>
        <p:spPr>
          <a:xfrm>
            <a:off x="6286680" y="214200"/>
            <a:ext cx="2500200" cy="19288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5"/>
          <p:cNvSpPr/>
          <p:nvPr/>
        </p:nvSpPr>
        <p:spPr>
          <a:xfrm>
            <a:off x="5646600" y="2003400"/>
            <a:ext cx="1843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став и внутренне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роение Марс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оло 3 млрд. лет наза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авершился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т период, и еще по крайней мер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чение миллиарда л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родолжа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обальны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ктонические процесс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уже начало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епенное охлаждение планеты, продолжающееся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ны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нтия Мар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богащена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сернистым желез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метные количества которого обнаружены 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следованных поверхностных породах, тогда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держание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металлического желе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аметно меньш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м на других планетах Земной групп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Толщина литосферы Марса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— несколько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сотен км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включая примерно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00 км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ее ко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i[12]"/>
          <p:cNvPicPr/>
          <p:nvPr/>
        </p:nvPicPr>
        <p:blipFill>
          <a:blip r:embed="rId1"/>
          <a:stretch/>
        </p:blipFill>
        <p:spPr>
          <a:xfrm>
            <a:off x="6500880" y="285840"/>
            <a:ext cx="242892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тмосфера и вода на Марс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48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Атмосфера на Марсе разрежена  и состоит из углекислого газа и малых добав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азота, аргона и кислор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центрация водяного пара невелика, и она меняется в зависимости от сезо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уществование воды на Марсе — один из главных вопросов в изучении этой плане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2004 г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арсоходы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«Спирит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«Оппортьюнити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казали наличие воды в проб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сианского грунта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сть все основания полагать, что воды на Марсе немал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енности рельефа напоминают выглаженные ледниками участ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удя по хорошей сохранности этих форм, не успевших ни разрушиться, ни покрыть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следующими наслоениями, они имеют относительно недавнее происхожден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де же теперь марсианская вода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ода существует и сейчас в виде мерзлот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весьма низких температурах на поверхности Марса на любой открыт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ерхности воды быстро образуется толстая корка льда, которая, через коротк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ремя заносится пылью и пес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лагодаря низкой теплопроводимости льда под его толщей местами мож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ставаться и жидкая вода и подледные потоки воды продолжают и теперь углубля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усла некоторых рек, мости льда под его толщей местами может оставаться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жидкая вода и, подледные потоки воды продолжают и теперь углублять рус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которых р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380880"/>
            <a:ext cx="584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ижение, размеры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 масса Мар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8713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ее расстоя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т Солн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вно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7,99 млн. к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инимальное расстоя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т Солнца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7млн. к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иод обращ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арса вокруг Солнц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86,98 зем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ток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яя скор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битального движ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оставля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,13 км/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кваториальный радиу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ланеты равен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94 к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ярны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—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76,4 км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сса Мар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оставляе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,44 1023 к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яя плот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,95 г/см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i[12]"/>
          <p:cNvPicPr/>
          <p:nvPr/>
        </p:nvPicPr>
        <p:blipFill>
          <a:blip r:embed="rId1"/>
          <a:stretch/>
        </p:blipFill>
        <p:spPr>
          <a:xfrm>
            <a:off x="6500880" y="285840"/>
            <a:ext cx="242892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Малые планеты солнечной систем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123640" y="4266720"/>
            <a:ext cx="6867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Меркурий, Венера, Земля, Марс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ижение, размеры и масса Мар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корение свободного па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экватор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,76 м/с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Однако раз в 15-17 лет происходит так называемое вели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противостояние, когда  эти две планеты сближаются примерно на 5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млн. км; последнее такое сближение имело место в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1988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 время великих противостояний Марс выглядит самой яр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вездой на полуночном небе, оранжево-красного цвета, вследств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го его стали считать атрибутом бога вой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енно новый уровень исследований Марса начался в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196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г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этих целей стали использоваться космические аппараты, котор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ачале облетали планету, а затем и опускались на ее поверх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С имее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естественных спутника —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бос и Дейм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 атмосферы: СО2 , N2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, СО,Н2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Участки поверхности Марса, покрытые кратерами, похожи на лу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матер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ем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05nil042i"/>
          <p:cNvPicPr/>
          <p:nvPr/>
        </p:nvPicPr>
        <p:blipFill>
          <a:blip r:embed="rId1"/>
          <a:stretch/>
        </p:blipFill>
        <p:spPr>
          <a:xfrm>
            <a:off x="5145120" y="3357720"/>
            <a:ext cx="3998880" cy="32400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250920" y="1571760"/>
            <a:ext cx="8066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емля, третья от Солнца большая планета Солнечной систе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агодаря своим уникальным,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единственным во Вселенной природным условиям, Земля стала местом, где возникла и получила развитие органическая жиз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емля движется вокруг Солн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 эллиптической орби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ло отличающей от окру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-171360"/>
            <a:ext cx="5083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орма, размеры 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вижение Земл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6882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По форме Земля близка к эллипсоид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сплюснутому у полюсов и растянутому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экваториальной зо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диу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Зем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371,032 к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яр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356,777 к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кваториальны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378,160 к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с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Земли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976·1024 к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лот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518 кг/м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емл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вижется вокруг Солн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о средней скоростью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9,765 км/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 эллипт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стоя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т Солнц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9,6 млн. к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иод одного обращ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 орбит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5,24 солнечных сут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ащение Зем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округ собственной ос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,292115·10-5 рад/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лощад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верхности Зем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10,2 млн. км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05nil042i"/>
          <p:cNvPicPr/>
          <p:nvPr/>
        </p:nvPicPr>
        <p:blipFill>
          <a:blip r:embed="rId1"/>
          <a:stretch/>
        </p:blipFill>
        <p:spPr>
          <a:xfrm>
            <a:off x="6072120" y="357120"/>
            <a:ext cx="2587680" cy="20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, размеры и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движение Земл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уш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оставляет соответственно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9,2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 образует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шест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материков и остров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а поднимается  над уровнем моря в среднем н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75 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ибольшая высот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848 м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Горы занимают свыше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1/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верхности суши. Пустыни покрывают около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поверх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ши, саванны и редколесья -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%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леса 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0%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ледники 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%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выше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суши занято под сельскохозяйственными угодья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00"/>
                </a:solidFill>
                <a:latin typeface="Arial"/>
              </a:rPr>
              <a:t>У Земли имеется единственный спутник — Лу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1" i="1" lang="en-US" sz="2200" spc="-1" strike="noStrike">
                <a:solidFill>
                  <a:srgbClr val="ff6600"/>
                </a:solidFill>
                <a:latin typeface="Arial"/>
              </a:rPr>
              <a:t>Ее орбита близка к окружности с радиусом около 384400 к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05nil042i"/>
          <p:cNvPicPr/>
          <p:nvPr/>
        </p:nvPicPr>
        <p:blipFill>
          <a:blip r:embed="rId1"/>
          <a:stretch/>
        </p:blipFill>
        <p:spPr>
          <a:xfrm>
            <a:off x="6072120" y="357120"/>
            <a:ext cx="2587680" cy="20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исхождение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современным космогоническ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ставлениям Земля образова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,6-4,7 млрд. лет наза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из захвачен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тяжением Солнц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опланетного обла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но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,5 млрд. лет наза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озникли условия, благоприятные для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озникновения жиз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05nil042i"/>
          <p:cNvPicPr/>
          <p:nvPr/>
        </p:nvPicPr>
        <p:blipFill>
          <a:blip r:embed="rId1"/>
          <a:stretch/>
        </p:blipFill>
        <p:spPr>
          <a:xfrm>
            <a:off x="6072120" y="357120"/>
            <a:ext cx="2587680" cy="20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07552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нутреннее стро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Основную роль в исследовании внутреннего строения Земли играют сейсмические метод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основанные на исследовании распространения в ее толще упругих волн, возникающих при сейсмическ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событиях — при естественных землетрясениях и в результате взрыв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емля условно разделяют на три области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ра, мантия и ядр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шний слой —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ко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имеет среднюю толщину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5 км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ные типы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земной кор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континентальный и океанический; в переходной зоне от материка к океа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а кора промежуточного тип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Толщина кор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еняется в довольно широких пределах: океаническая кора имеет толщину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 к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редние плотности составляю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,6 г/см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 поверхности Земл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,67 г/см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 грани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,85 г/см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 базаль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а глубину примерно от 35 до 2885 км простирается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мант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ем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отделяется от коры резкой границей глубже, которой скорости как продольных, так и попереч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ругих сейсмических волн, а также механическая плотность скачкообразно возрастаю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лотности в мант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величиваются по мере возрастания глубины примерно о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,3 до 9,7 г/см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В кор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в мант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сполагаются обширные литосферные плиты влияющий на облик Зем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шнее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ядр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является жидким. По современным представлениям внешнее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ядро состои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з серы и желез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глубинах свыш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12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ейсмические методы обнаруживают наличие твердого внутреннего ядра,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ю которого приходитс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,7% массы Земл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центральной части Земли порядка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5000 °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аксимальная температу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поверхности приближается к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0 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инимальная составляе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кол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-90 °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ff"/>
                </a:solidFill>
                <a:latin typeface="Arial"/>
              </a:rPr>
              <a:t>Плотность в центре Земли около </a:t>
            </a:r>
            <a:r>
              <a:rPr b="0" i="1" lang="ru-RU" sz="1400" spc="-1" strike="noStrike">
                <a:solidFill>
                  <a:srgbClr val="3333ff"/>
                </a:solidFill>
                <a:latin typeface="Arial"/>
              </a:rPr>
              <a:t>12,5 г/см3</a:t>
            </a:r>
            <a:r>
              <a:rPr b="1" i="1" lang="ru-RU" sz="1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д поверхностью 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686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Земля окружена атмосфер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ижний ее сл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остирается в среднем до высоты в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4 км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емпература в тропосфере падает с увеличением высо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ой о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-55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зывают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стратосфер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здесь температура возрастает с увеличени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оты. Выше находится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мезосфе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над которой наблюдаются серебристые обла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громное значение имеет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озоносфе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слой озона, находящийся на высоте о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ласть выш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-8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зывают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ионосфер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томы и молекулы в этом слое интенсивно ионизируются под действием солнеч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адиации, ультрафиолетового излучения. Если бы не озоновый слой, потоки излуч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ходили бы до поверхности Земли, производя разрушения в имеющихся там жив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рганизм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На расстояниях более </a:t>
            </a: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1000 км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 газ настолько разрежен, что столкновения между молекула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перестают играть существенную роль, а атомы ионизированы более чем наполовин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высоте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,6 и 3,7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диусов Земли находятся радиационные пояс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витационное поле Земли с высокой точностью описывается законом всемирного тягот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ьютона. Земля обладает также магнитным и электрическим поля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гнитное поле над поверхностью Земли складывается из постоянной«главной» и перем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стей; последнюю обычно относят к вариациям магнитного поля. Главное магнитное поле име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уктуру, близкую к дипольной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гнитный дипольный момен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емли, равны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,98·1025 единиц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ГС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пряженности магнитного пол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северном и южном магнитных полюсах рав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ответственн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,58 и 0,68 Э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а на геомагнитном экваторе — около 0,4 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лектрическое поле над поверхностью Земли в среднем имеет напряженность окол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0 В/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равлено вертикально вниз — это так называемое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«пол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ясной погоды»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о это поле испытыв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чительные вари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у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Естественный спутник Зем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ем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сстоянии 384 400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лон орбиты к плоскости эклиптики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 °8 ¢43 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са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7,35 .1022 к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ий радиус Луны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738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корение силы тяже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поверхности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,62 м/с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я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лотность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343 кг/м3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дерически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обращ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7,3 сут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одически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обращения        29,5 сут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Светит отраженным солнечным светом, визуальное сферическое альбедо </a:t>
            </a: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0,75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Поверхность Луны в основном гориста, покрыта многочисленными крат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ударного происхожд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нный грунт — реголи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поверхности Лун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-400 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гнитное поле £ 4 гам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Первый человек ступил на поверхность Луны 21 июля 1969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l_533i"/>
          <p:cNvPicPr/>
          <p:nvPr/>
        </p:nvPicPr>
        <p:blipFill>
          <a:blip r:embed="rId1"/>
          <a:stretch/>
        </p:blipFill>
        <p:spPr>
          <a:xfrm>
            <a:off x="5715000" y="260280"/>
            <a:ext cx="3005280" cy="31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верхность Л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Луне даже невооруженным глазом различимы темны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носительно ровные участки, называемые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«морями»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разделяющие их боле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ветлые —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«материки»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«континенты»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На долю последн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ходится немногим боле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3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лощади поверхности Лу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верхность «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териков» гориста, ее уровень выше, чем у «морей»,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ность средних высот достига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,3 к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Уровень в круговых «морях»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йонах несколько повышенной плотности лунной породы обычно боле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м на километр ниже, чем у «морей» неправильной формы и уступает 4 к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ксимальной высоте «материков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ff"/>
                </a:solidFill>
                <a:latin typeface="Arial"/>
              </a:rPr>
              <a:t>Поверхность Луны покрыта большим числом кольцевых структур — кольцевы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ff"/>
                </a:solidFill>
                <a:latin typeface="Arial"/>
              </a:rPr>
              <a:t>горами и кратерами ударного происхожд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ff"/>
                </a:solidFill>
                <a:latin typeface="Arial"/>
              </a:rPr>
              <a:t>Видимые на поверхности линейные структуры — борозд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ff"/>
                </a:solidFill>
                <a:latin typeface="Arial"/>
              </a:rPr>
              <a:t>разломы и складки — являются свидетельствами тектонических процессов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l_536i"/>
          <p:cNvPicPr/>
          <p:nvPr/>
        </p:nvPicPr>
        <p:blipFill>
          <a:blip r:embed="rId1"/>
          <a:stretch/>
        </p:blipFill>
        <p:spPr>
          <a:xfrm>
            <a:off x="6804000" y="404640"/>
            <a:ext cx="1771560" cy="27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ижение Л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65188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Луна движется вокруг Земли по почти эллиптической орбите со средней линейно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скоростью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3683 км/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инимальное расстояни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от Земл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3300 к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аксимально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5500 к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лоскость орбит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Луны наклонена к плоскости эклиптики на угол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°08'43'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риод орбитального движ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,32166 земных суто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что совпадает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периодом осевого обращения Луны, благодаря этому Луна всегда обращена 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Земле одним и тем же полушарие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Из-за того что движение Луны по орбите не является равномерным, а также из-з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наклона плоскости экватора к плоскости ее орбиты, с Земли можно наблюд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несколько более чем половину поверхнос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Лун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риод обращ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Луны относительно Солнца составля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9,53 суто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унный ден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унная ноч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длятся почти по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суто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 течение лунного дня поверхность Луны нагревается, а ночью охлаждаетс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и этом температура на поверхности Луны меняется от 400 до 100 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еркур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Меркурий, ближайшая к Солнц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большая планета Солнечной систем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араметры движения плане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нее расстоя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т Солнц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,387 астрономичес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диниц (58 млн. км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иод обращ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88 суто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иод вращ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58,6 сут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ний диамет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4878 к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са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3,3·1023 кг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тмосфе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райне разрежена и состоит из 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Ar, Ne, 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Поверхность Меркурия по внешнему виду  подобна лунной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mht69(1)[1]"/>
          <p:cNvPicPr/>
          <p:nvPr/>
        </p:nvPicPr>
        <p:blipFill>
          <a:blip r:embed="rId1"/>
          <a:stretch/>
        </p:blipFill>
        <p:spPr>
          <a:xfrm>
            <a:off x="6659640" y="260280"/>
            <a:ext cx="2232000" cy="21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оение и состав Л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36280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лотность лунных пород составляет в среднем 3,343 г/см3, что заметно уступ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редней плотности для Земли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меются и различия в минералогическом составе лунных и земных пород: содерж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ксидов уплотнение вещества с глубиной проявляется на Земле значительно заметне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ем на железа в лунных базальтах на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5%,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а титана — на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3%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выше, чем в земны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«Морские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зальты на Луне отличаются повышенным содержанием оксидов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алюми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кальц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относительно более высокой плотностью, что связывают с их глубинн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схождением.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Для исследования строения Луны использовалис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сейсмические метод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ерхностный слой — лунная кора имеет состав, близкий к составу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«материков»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 корой располагается верхняя мантия — слой толщиной окол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5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ще глубже — средняя мантия толщиной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нно в этом слое в результате частичного вплавления формировалис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«морские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заль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глубинах порядка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600-80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сполагаются глубокофокусные лунные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ейсмические очаг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глубине окол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80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кончается литосфера и начинается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лунная астеносфе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плавленный слой, в котором, могут распространяться только продольные сейсмическ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лны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ерхней части астеносферы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200 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а глубин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380-157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исходит резкое изменение скорости продольных волн — здес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ходит граница пятой зоны — ядра Луны. Поверхностный довольно рыхлый слой Лу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стоит из пород, раздробленных постоянным потоком падающих на нее твердых тел — о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икрометеоритов и пыли до крупных частиц — многотонных метеоритов и астероид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д поверхностью Луны газовая атмосфера как таковая отсутствует, так как не мож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держиваться Луной вследствие ее малой массы.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В результате даже легчайшие атомы пр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редних тепловых скоростях способны преодолевать притяжение Луны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изические поля Л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Наиболее тщательно исследовалось гравитационное поле Луны, что объясняется не тольк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потребностями космонавтики, но и дает важную информацию об особенностях строения Лун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ти исследования выявили нецентральность гравитационного поля, обусловленну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еоднородностью плотности нед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Ускорение силы тяжест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поверхности Луны составил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,623 м/с2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гнитное пол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Луны является весьма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лабы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составляе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,1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агнитного поля Земл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лектрическое поле у поверхности Луны не измерялось, но существуют теоретическ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казания на то, что из-за значительного приливного воздействия со стороны Земли внутр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уны должно произойти перераспределение электрических зарядов, приводящее 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ованию над ее поверхностью электрического поля с напряженностью в некоторых точка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рядка киловольта на мет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Луна светит отраженным солнечным светом; визуальное сферическое альбедо равн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0,075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о есть Луна отражает всег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7,5%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падающих на нее солнечных световых луч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Отражение падающего от внешнего источника света довольно заметно преобладает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направлении к этому источнику; по этой причине Луна ярче всего в полнолун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обственное тепловое излучение Луны незначитель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пуски ракет на Лун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1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2 января 1959 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в СССР было осуществлен запуск первой в мире автоматическо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жпланетной станции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Луна– 1 »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ссой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1472 к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пролетела вблиз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Луны на расстоянии меньше 6000 км от её поверхности и, выйдя 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гелиоцентрическую орбиту, стала первой в мире искусственной плането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олнечной систем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Сентябрь 1959 г.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остоялся новый старт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–2 » .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чта фантастов сбылась: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озданный человеком аппарат впервые достиг другого небесного тел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октябре 1959 г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в космическое путешествие отправился следующ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лунник –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 - 3 ».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явились первые фотографии обратной стороны Лун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сентябре 1970 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 станция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 -16 »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овершила мягкую посадку в район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оря Изобилия, произвела и взятие образцов грунт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ноябре 1970 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станция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– 17 »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доставила на её поверхность передвижно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аппарат  </a:t>
            </a:r>
            <a:r>
              <a:rPr b="1" lang="ru-RU" sz="1500" spc="-1" strike="noStrike">
                <a:solidFill>
                  <a:srgbClr val="ff6600"/>
                </a:solidFill>
                <a:latin typeface="Arial"/>
              </a:rPr>
              <a:t>« Луноход – 1 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феврале 1972 г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в экспедицию на Луну отправился следующий космическ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аппарат -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– 20»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Эта станция доставила на Землю образец лунного грунта из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труднодоступного горного район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1973 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станция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– 21 »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доставила внутрь кратера Лемонье у восточно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границы Моря  Ясности </a:t>
            </a:r>
            <a:r>
              <a:rPr b="1" lang="ru-RU" sz="1500" spc="-1" strike="noStrike">
                <a:solidFill>
                  <a:srgbClr val="ff6600"/>
                </a:solidFill>
                <a:latin typeface="Arial"/>
              </a:rPr>
              <a:t>« Луноход – 2 »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.Возникли панорамы нашей Лун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лёты по программе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Аполлон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178560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ым летательным аппаратом, доставившим человек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ерхность Луны, был американский космический кораб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« Аполлон – 11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лёт состоялся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16 июля 1969г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В кабинете кораб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дились 3 астронавта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. Армстронг Н. Армстронг, М. Коллин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 Э. Олдри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1 июля в 5ч 56мин на поверхность Луны вступил первый человек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. Армстронг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тем к нему присоединился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. Олдр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и оставили на Луне телевизионные и фотокамеры, инструм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сбора лунных камней, ранцевые системы жизнеобеспечени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угое снаряжени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Н. Армстронг: « Из лунной кабины небо казалось черным, но на Луне было светло, как днём, и поверхность её была рыжевато-коричневой»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l_536i"/>
          <p:cNvPicPr/>
          <p:nvPr/>
        </p:nvPicPr>
        <p:blipFill>
          <a:blip r:embed="rId1"/>
          <a:stretch/>
        </p:blipFill>
        <p:spPr>
          <a:xfrm>
            <a:off x="7711920" y="0"/>
            <a:ext cx="1432080" cy="22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Это</a:t>
            </a: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интересно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Челове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весивший на Земле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800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буд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сить на Луне около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130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Попав на Луну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хранив свою мускульную силу, он смож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ыгать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в 6 ра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ыше или дальше, чем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емле, поднимать тяжести,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в 6 ра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большие, 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ыгая с высоты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15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не причинять себе вре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обенности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62000"/>
            <a:ext cx="8820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Меркурий движется вокруг Солнца по си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вытянутой эллиптической орби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олжительность солнечных сут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вна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7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тояние Меркурия от Зем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2 до 217 млн.к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дняя скорость движ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круг Солнца —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7,89 км/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На Меркурии распределение масс не является стр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концентрическим</a:t>
            </a: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ращение вокруг Солнца и его собственное вра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водят к тому, что длительность солнечных суток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ланете равна трем звездным меркурианским суткам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вум меркурианским годам и составля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75,92 су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merkuri[1]"/>
          <p:cNvPicPr/>
          <p:nvPr/>
        </p:nvPicPr>
        <p:blipFill>
          <a:blip r:embed="rId1"/>
          <a:stretch/>
        </p:blipFill>
        <p:spPr>
          <a:xfrm>
            <a:off x="6588000" y="476280"/>
            <a:ext cx="2352960" cy="207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змеры, форма и масса Мерку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По форме  планета близка к шару с экваториа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радиусом (2440 ± 2)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щадь поверхн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,8 ра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чем у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ем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      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,8 раз мень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чем у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яя плот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составляет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,44 г/см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корение свободного пад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близи поверхности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,7 м/с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ность полуос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экваториального эллипса составля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тклонения геометрического центра планеты от цент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асс — порядка полутора километр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i[24]"/>
          <p:cNvPicPr/>
          <p:nvPr/>
        </p:nvPicPr>
        <p:blipFill>
          <a:blip r:embed="rId1"/>
          <a:stretch/>
        </p:blipFill>
        <p:spPr>
          <a:xfrm>
            <a:off x="6786720" y="571680"/>
            <a:ext cx="197928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7.91908E-006 C -0.01336 -0.2874 -0.02656 -0.5748 -0.02222 -0.57087 C -0.01788 -0.56694 0.01841 -0.07006 0.02552 0.02335 C 0.03264 0.11676 0.02084 -0.01203 0.02066 -0.01064 C 0.02049 -0.00925 0.02223 0.01109 0.02396 0.03167 E">
                                      <p:cBhvr>
                                        <p:cTn id="83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мпература и рельеф    поверхности Мерку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58996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70c0"/>
                </a:solidFill>
                <a:latin typeface="Arial"/>
              </a:rPr>
              <a:t>Меркурий получает от центрального светила значительно большое количество эн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030a0"/>
                </a:solidFill>
                <a:latin typeface="Arial"/>
              </a:rPr>
              <a:t>Из-за вытянутости орбиты поток энергии от Солнца варьируется примерно в два р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Большая продолжительность дня и ночи приводит к тому, что проявляются яркостные температуры на «дневной» и на «ночной» сторонах поверхности Меркурия (температура может изменяться примерно от 600 К до 100 К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Поверхность Меркурия, покрытая раздробленным веществом базальтового типа, довольно темная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 наблюдениям с Земли, поверхность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Меркурия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в целом похожа на поверхность Луны, хотя контраст между темными и светлыми участками выражен слабее. Наряду с кратерами есть холмы и дол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i[33]"/>
          <p:cNvPicPr/>
          <p:nvPr/>
        </p:nvPicPr>
        <p:blipFill>
          <a:blip r:embed="rId1"/>
          <a:stretch/>
        </p:blipFill>
        <p:spPr>
          <a:xfrm>
            <a:off x="6443640" y="333360"/>
            <a:ext cx="2448000" cy="188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тмосфера и физические пол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д поверхностью Меркурия имеются следы весьма разреже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тмосферы, содержащей гелий, водород,  углекислый газ, углеро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ислород и благородные га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Близость Солнца обусловливает ощутимое влияние на Меркур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солнечного ветра. Благодаря этой близости воздействие Солнц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Меркурий, должно приводить к возникновению над поверхн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планеты электрического поля, напряженность которого может бы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примерно вдвое больше, чем у  «поля ясной погоды» над поверхн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Земли, и отличается от последнего сравнительной стабиль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На Меркурии имеется  магнитное по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i[35]"/>
          <p:cNvPicPr/>
          <p:nvPr/>
        </p:nvPicPr>
        <p:blipFill>
          <a:blip r:embed="rId1"/>
          <a:stretch/>
        </p:blipFill>
        <p:spPr>
          <a:xfrm>
            <a:off x="6804000" y="189000"/>
            <a:ext cx="2160720" cy="143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н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68680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Венера, вторая от Солнца и ближайшая  к Земле большая план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Солнечно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раметры движения плане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ее расстояние от Солнца 0,72 а. 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обращения        224,7 суто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ащения                243 суто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ий радиус     6050 к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са       4,9 . 1024 к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тмосфера: CO2 (97%), N2 (ок. 3%), H2O (0,05%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си CO, SO2, HCl, H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пература у поверхности    750 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вление 107 П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На поверхности Венеры обнаружены горы, кратеры, кам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Поверхностные породы Венеры близки по составу к земным осадочным пород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тмосфера почти целиком состоит из углекислого газа (около 96%), а азота 3,2%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i[4]"/>
          <p:cNvPicPr/>
          <p:nvPr/>
        </p:nvPicPr>
        <p:blipFill>
          <a:blip r:embed="rId1"/>
          <a:stretch/>
        </p:blipFill>
        <p:spPr>
          <a:xfrm>
            <a:off x="6588000" y="2421000"/>
            <a:ext cx="2202120" cy="220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лан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69796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Венера движется вокруг Солнца по орбит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располагающейся между орбитами Меркурия и Зем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енера — единственная планета Солнечной системы, собствен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ращение которой противоположно направлению ее обращения вокруг  Сол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иод собственного вращения близок к 243 земным сут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з-за  «обратного» направления вращения Венеры длительность солнечных суток на ней в 116,8 раз больше, чем на Земле, так что за один  венерианский год восход и заход Солнца на Венере происходит всего дваж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тояние от Венеры до Земли изменяется от 38 млн. км до 258 млн. к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яя скорость движения по орбите 34,99 к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енера — наиболее яркое светило земного неб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 максимуме блеска она достигает -4,4 звездной велич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i[32]"/>
          <p:cNvPicPr/>
          <p:nvPr/>
        </p:nvPicPr>
        <p:blipFill>
          <a:blip r:embed="rId1"/>
          <a:stretch/>
        </p:blipFill>
        <p:spPr>
          <a:xfrm>
            <a:off x="6858000" y="260280"/>
            <a:ext cx="1604880" cy="195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9577 L 0.25 0 L 0 0 Z">
                                      <p:cBhvr>
                                        <p:cTn id="103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0:13:09Z</dcterms:created>
  <dc:creator>саша</dc:creator>
  <dc:description/>
  <dc:language>en-US</dc:language>
  <cp:lastModifiedBy>Name</cp:lastModifiedBy>
  <dcterms:modified xsi:type="dcterms:W3CDTF">2010-09-23T12:06:05Z</dcterms:modified>
  <cp:revision>31</cp:revision>
  <dc:subject/>
  <dc:title>Малые плане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07000000000001024140</vt:lpwstr>
  </property>
</Properties>
</file>